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DFC3-9EAE-48A0-B70B-07EFAB8F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2EB-BF69-485C-978D-801A90D5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413C-F6BA-4687-8C81-D497C57D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D1C1-5ABB-4FE5-92F4-26848F0D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72C6-F34F-413B-9E8E-1AAC02D6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5D54-9E63-4CE0-8948-23A686A5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138F-F11F-4E45-8232-C845AA17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2256-60A7-4835-9FD2-0148B08C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75F7-45CF-492A-A26F-E48FB4E9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2C2D-1166-42A2-BF17-3A696685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73D2-0D27-43B0-BE7D-D29BEA21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8203-AC61-43E8-ABBD-C726B22D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48AE-302A-42CC-ABCE-9B35B1F78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man Old Style"/>
              </a:rPr>
              <a:t>Tempera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by Pam Spi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hematics SOL 2.19---The student will read a Celsius and/or Fahrenheit thermometer to the nearest 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is temperature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erature is how warm or cool something 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at instrument is used to measure temperatur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herm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MPj04304560000[1]"/>
          <p:cNvPicPr/>
          <p:nvPr/>
        </p:nvPicPr>
        <p:blipFill>
          <a:blip r:embed="rId1"/>
          <a:stretch/>
        </p:blipFill>
        <p:spPr>
          <a:xfrm>
            <a:off x="5257800" y="3124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ow can we measure temperatur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In degrees Fahrenh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In degrees Cels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is used inside a thermometer to measure temperatu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3580920"/>
            <a:ext cx="746748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d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at kinds of things can we measure the temperature of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22800"/>
            <a:ext cx="81532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erature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es temperature outside influence our behavio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MCj03636100000[1]"/>
          <p:cNvPicPr/>
          <p:nvPr/>
        </p:nvPicPr>
        <p:blipFill>
          <a:blip r:embed="rId1"/>
          <a:stretch/>
        </p:blipFill>
        <p:spPr>
          <a:xfrm>
            <a:off x="838080" y="2666880"/>
            <a:ext cx="1430280" cy="183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MCj01376670000[1]"/>
          <p:cNvPicPr/>
          <p:nvPr/>
        </p:nvPicPr>
        <p:blipFill>
          <a:blip r:embed="rId2"/>
          <a:stretch/>
        </p:blipFill>
        <p:spPr>
          <a:xfrm>
            <a:off x="3657600" y="4094280"/>
            <a:ext cx="2181240" cy="2763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MCj03512350000[1]"/>
          <p:cNvPicPr/>
          <p:nvPr/>
        </p:nvPicPr>
        <p:blipFill>
          <a:blip r:embed="rId3"/>
          <a:stretch/>
        </p:blipFill>
        <p:spPr>
          <a:xfrm>
            <a:off x="304920" y="4572000"/>
            <a:ext cx="3244680" cy="167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MCj02324440000[1]"/>
          <p:cNvPicPr/>
          <p:nvPr/>
        </p:nvPicPr>
        <p:blipFill>
          <a:blip r:embed="rId4"/>
          <a:stretch/>
        </p:blipFill>
        <p:spPr>
          <a:xfrm>
            <a:off x="3048120" y="1981080"/>
            <a:ext cx="1758960" cy="1868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MPj03847030000[1]"/>
          <p:cNvPicPr/>
          <p:nvPr/>
        </p:nvPicPr>
        <p:blipFill>
          <a:blip r:embed="rId5"/>
          <a:stretch/>
        </p:blipFill>
        <p:spPr>
          <a:xfrm>
            <a:off x="6400800" y="4343400"/>
            <a:ext cx="2500200" cy="251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MPPH02898J0000[1]"/>
          <p:cNvPicPr/>
          <p:nvPr/>
        </p:nvPicPr>
        <p:blipFill>
          <a:blip r:embed="rId6"/>
          <a:stretch/>
        </p:blipFill>
        <p:spPr>
          <a:xfrm>
            <a:off x="6019920" y="2133720"/>
            <a:ext cx="25826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 1-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red line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igh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ow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hen the temperature is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ott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bxp28391"/>
          <p:cNvPicPr/>
          <p:nvPr/>
        </p:nvPicPr>
        <p:blipFill>
          <a:blip r:embed="rId1"/>
          <a:stretch/>
        </p:blipFill>
        <p:spPr>
          <a:xfrm>
            <a:off x="6400800" y="3124080"/>
            <a:ext cx="1897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estion 2--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red line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igh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owe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he temperature is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ld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tock Photo - thermometer. fotosearch &#10;- search stock &#10;photos, pictures, &#10;images, and photo &#10;clipart"/>
          <p:cNvPicPr/>
          <p:nvPr/>
        </p:nvPicPr>
        <p:blipFill>
          <a:blip r:embed="rId1"/>
          <a:stretch/>
        </p:blipFill>
        <p:spPr>
          <a:xfrm>
            <a:off x="4495680" y="3505320"/>
            <a:ext cx="38484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22:12:14Z</dcterms:created>
  <dc:creator>Christin Youel</dc:creator>
  <dc:description/>
  <dc:language>en-US</dc:language>
  <cp:lastModifiedBy>Christin Youel</cp:lastModifiedBy>
  <dcterms:modified xsi:type="dcterms:W3CDTF">2009-09-20T20:53:55Z</dcterms:modified>
  <cp:revision>3</cp:revision>
  <dc:subject/>
  <dc:title>Temperature</dc:title>
</cp:coreProperties>
</file>